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170-BA95-4F07-B524-85069950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2C0-DF68-4327-8B6A-282B741C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6ED-79C7-448C-9EB2-A26618CA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97D-EC02-4663-9EC6-CC3261D2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6BA-9B62-44C5-B3D4-9372D8EB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812-6A49-41F1-97CD-8979346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6E6-2681-4681-84ED-6743317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5705-BEEF-4450-A448-13EA2B74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1A5C-6136-4681-9749-CEB9246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0F7-076C-4D03-8C89-890A2A2D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C31-73F1-4197-9694-A3D2AEE6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340-5F34-4D2F-B063-A9AF5BD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DC66-8907-4A7F-BA06-8F2ECC1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935-6C83-4936-B67B-D0DAAD1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9C4-9655-4175-83BB-75E6B69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C2A5-2907-4BEF-92EF-31FB4E69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E5FA-06A3-4979-9985-330149A8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C0C9-A881-4678-BB2D-7BC1CE5A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A774-AE7A-4644-B70D-817BE70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7BDF-EF52-47AB-A649-31670C1C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4275-0B1D-4E1A-B9C2-B60713D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1CC1-98CE-4B05-98B4-3C50979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A7A-5179-4632-84C4-F24899D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CF56-9538-4AF5-A3E4-4F5D350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D101-6E81-4B59-ACB1-1ADFC73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B15A-BF68-4930-9FFF-27DE5AB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14F4-4FDB-4871-832B-6BD22C7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B971-C377-492F-A400-7EFBB69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B4C0-E9F0-4F47-B290-ABC5A7A2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A4F7-8D67-4664-9A20-6B611B42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636F-F407-4827-8D89-708E232B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D671-2944-43E2-9FEB-BA611ED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4B9F-DA37-40E5-B24F-CEFA837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577-7F8D-429C-8497-73EDA8E6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51D75-CED0-4EBC-A975-017795A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69AA-12F7-496C-86E3-EA04372C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A2AA-2CBB-4E02-8CD8-CE76D9EE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538A-B495-4546-A725-2ABA13E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A815-54C8-4893-9A53-5FE2980D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023A-C14A-4B48-9333-0635C5C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D938-E4DE-44C4-A50A-7F398636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BBCD-DE3F-456D-A474-9DD95AE5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B680-B3F6-4486-94E6-4F2B9EFC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8ECF5-E2AE-4F1C-82A9-DA2CE215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352-D010-4603-B214-3425A27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67BD1-5496-4072-99AB-CFFA86D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7AC8-F0A3-4A96-B61A-490BC14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2AA9E-C510-4999-82F0-5925961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0ADD-39F2-48A1-97E6-CDFDD0D2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0FB9-057C-4156-9A70-9BE03AD1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E105-E7DF-41DE-AC61-5A54C7F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F772-F4CC-4D80-B253-CD41E65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FD29-7821-4F04-930B-89F5ED5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01D5-D909-427C-9EBC-10DA656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8E36-1D1F-4EA7-A6EB-9EE59F95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A8C-EDC2-45D6-B50D-3BDD294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99F8-4EE7-4CA6-82D5-F15D0B27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36EB-685C-429D-8989-8B9A37AB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2360-200F-44AF-B53A-EFB61AF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DB1D-F3B2-4491-B9AB-A18EC4D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102D0-6BBB-4EF7-990F-6B2BEAE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0DFE-A451-44E1-BBB0-EFB02C8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9838-F97D-4837-96A5-9F642DB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EB2A-824E-44F0-9CE0-E84302F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35C4-18A9-44B7-B1A7-71BAFA9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A20F-4833-4383-B00B-8C6A5C7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C93-F3FC-4483-BF08-33CF05F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3012D-7B82-4DA3-ABD2-75C871D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4A7A-03AD-4634-8956-583C1C79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A088-B1A2-47F8-976F-0367FA6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49E0-5D7F-4497-88FA-C28212E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C570D-DB17-4C0A-AD0D-24E1BE7D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0826-1237-4739-8792-6E289D52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AB1C-97A9-4F52-8F7B-62A4F565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82D3C-2C4A-489C-891C-D9A1F42C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832E-B51A-4C1D-BA3F-BDE294B9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B511-AC75-4F44-B789-7C747FD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A6B-5111-4F6D-BF94-B5F4322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EC9D-4165-4263-BAEC-EBCCE82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65B3-EA20-4031-88F1-3B1C364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2C3A-01FF-4B1D-B59B-D77B4E6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99D5-8F63-48C9-B84B-B560625B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BCD4-5422-4933-BB70-816AB33E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EA73-4610-47EB-A8BC-0501F068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DA51-07C6-4C36-9B97-6BEF3633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D723-D25E-4F9A-AE8C-2C39C6B9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F1C2-F6DD-4F19-84F9-1DF5F95D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0A7A-FD5D-4BC4-A8F0-AF7164D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539-DE42-4675-BEB6-B669054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1A52-8E91-47EB-B3B8-1CB0234A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63C6-ECA7-4E74-A8E6-36BCE8FA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DA47-E8C6-43C1-B473-EA6CE893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7D959-386E-43B1-A80F-064B1DF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A94B-657B-435E-B691-5D36C51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EA582-F2A7-444E-A391-0522D8E2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B5341-9C51-46D1-89B5-2C735EF9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9FAC-97CB-49A8-B830-F0EAA0E8B1F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16E-7FAD-4B11-84A4-567CFDDA50E4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0387-9CDD-4662-8254-011BA67CD658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1B2-59BC-4DBB-BAB1-F73775075F34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48D-3858-4B41-A975-1578F2CEAF9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6D6-3E8C-4414-8548-C941F71D2F75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DA7-54F6-4625-94CF-3A12F48B57F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31F-9D08-4CBB-AB0A-15E111B86783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lowryjc1\Desktop\Traction_logo.png"/>
          <p:cNvPicPr/>
          <p:nvPr/>
        </p:nvPicPr>
        <p:blipFill>
          <a:blip r:embed="rId1"/>
          <a:stretch/>
        </p:blipFill>
        <p:spPr>
          <a:xfrm>
            <a:off x="3214800" y="2071800"/>
            <a:ext cx="2381040" cy="9525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714240" y="6143760"/>
            <a:ext cx="75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Ash Evans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Brantyn Yates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      Josh Lowry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       Mark Bennett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farm simulation tool that demonstrates the effect on the environment that farm management decisions ha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The user shall be able to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Select view that shows attribute of interest as a transparent overlay for currently selected are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dify animal mob numbers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Change paddock chemical level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dify paddock are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Plant foliag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ve stock from one paddock to another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Create waterway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ingle area of 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Metrics fully impleme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environmental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creative intera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imple economics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configuration a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elevant graph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everal paddocks avail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bility for client to add custom metr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dvanced environmental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Creative user interaction impleme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dvanced economics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ll metrics fully modifi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Polished graph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Documents and Settings\lowryjc1\Desktop\6a00e54f88e3b6883301156f2a433b970c-800w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714760" cy="2446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928800" y="414324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Lucida Sans Unicode"/>
              </a:rPr>
              <a:t>The Hoff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4078800" y="278604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3" descr="C:\Documents and Settings\lowryjc1\Desktop\ovaltine.jpg"/>
          <p:cNvPicPr/>
          <p:nvPr/>
        </p:nvPicPr>
        <p:blipFill>
          <a:blip r:embed="rId3"/>
          <a:stretch/>
        </p:blipFill>
        <p:spPr>
          <a:xfrm>
            <a:off x="5357880" y="1357200"/>
            <a:ext cx="3236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22:17:15Z</dcterms:created>
  <dc:creator>Default-User</dc:creator>
  <dc:description/>
  <dc:language>en-US</dc:language>
  <cp:lastModifiedBy>Default-User</cp:lastModifiedBy>
  <dcterms:modified xsi:type="dcterms:W3CDTF">2009-09-21T22:49:45Z</dcterms:modified>
  <cp:revision>5</cp:revision>
  <dc:subject/>
  <dc:title>Slide 1</dc:title>
</cp:coreProperties>
</file>